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D5FF-05A3-4F4F-A771-9261BDAC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13E-8491-4E4B-8E46-D7DEF699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A09D-6EA1-4594-BED0-4B263994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BF1-B830-42F5-A296-300151A1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00A1-4B83-41BF-8D5F-6443D9B2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0E5-2EF3-4E9B-862B-0EF87B36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46AF-C24D-4F34-90A1-BE41FA11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AA60-60E7-44E1-90BA-72B7E5BA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6D37-60E9-49A5-B124-55F3E2A1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84C-0AE9-4B2D-BE74-7A185D67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E3F-5C69-4814-90AE-1180C210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968D-C9E5-4769-A5FB-E04B455D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CE04-D0EF-4914-8DE7-2B70F4AAD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ionalism Triumphs in Eur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.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ulturkamp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Bismar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“Battle for Civilization” between Catholics &amp; Luther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71-18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Germ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smarck was a Lutheran, 1/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Germany was Catholic = he distrusted them = wanted them to put loyalty to the state instead of church = passed laws that gave the state the right to supervise Catholics = Catholics united agnst Bismarck = he tried to make peace w.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lliam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German Kaiser, grandson of William 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succeeded William I,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aiser; confident ruler who believed his right to rule was from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(on the next slide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cked Europe by asking Bismarck to step down b.c. he wanted the pwr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sted Democratic reforms but provided social welfare programs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t up German military, the greatest in Europe (…WWI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anded German na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nationalism &amp; aggressive military stance = increased tensions = WW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Welf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William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programs to help certain groups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8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Germ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William II’s gov’t provided services such as cheap transportation &amp; electricity; an excellent system of public schools taught students obedience to the Empe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fying Ita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millo Cav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Italian politician &amp; unif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watned to unify Italy under a monarchy, unified Northern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6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reformed Sardinia’s economy- improved agriculture, built railroads, free trade; Long term goal: end Austrian control in Italy &amp; annex Lombardy &amp; Venetia (provinces near him); provoked war with Austria = independence = unified Northern Italy; joined with Garibaldi= one complete unified Ita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useppe Garibal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Italian nationali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led “Red shirts” &amp; wanted Italian unification under a republic, unified Southern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6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led “Red Shirts” (army) in controlling Sicily then joined Cavour’s forces  &amp; united Southern Italy= turned over S. Italy to Emmanuel (in the North) for one complete unified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rch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ocialists, Anarch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people who want to abolish all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late 18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wing radicals were struggling agnst the Conservative govt- eventually Anarchists emerged b.c. they believed the gov’t no longer was a functional system= they turned to sabotage &amp; violence = eventually the govt extended suffrage to more men &amp; improved social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ig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Italian peasa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o move away from your homeland, people that leave to live in anothe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9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Italy to US, Canada, Latin 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many Italians left &amp; went to Americas because of the divisions (poor vs rich) &amp; political probs (Lib vs. Conserv.); by 1914, Italy was much better off than 1861 but still had pro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ssia: Reform and Re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ilding a German 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ss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giant in s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s- 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Russia was giant in size = Europeans feared her autocratic govt &amp; expansion; but even though Russia had immense natural resources she remained economically undeveloped = there was a need to modern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me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Russians vs. Ottoman Tu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war the broke out after Russia tried to seize Ottoman Lands along the Danube Ri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Crimean Penins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tain &amp; France helped Ottomans invade the Crimean penin; Russia was defeated = revealed Russsia’s backwardness = Russia had only a few miles of RR, military was inefficient = many felt dramatic changes were needed to modern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exander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Tsar of Russ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tsar who believed in reform and repre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(on next sli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berals demanded dramatic changes so h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1861 he emancipated all serf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also set up a system of local gov. Elected assemblies (zemstovs) 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ed road repairs, schools, and agri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gal reforms like trial by 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ed censo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d military service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ouraged growth of indu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orms still didn’t please the majority = he became more strict = assassinated 18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ancip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Alexander II, Russian ser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freeing of the ser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Alexander II reformed Russia in order to improve it- this freedom brought probs.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er serfs had to buy the land they had worked, but were 2 poor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and allotted to peasants were 2 small to efficiently support a family/make a li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2040" indent="-21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Peasants stayed poor = DISCONTENT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emst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Alexander II, Russia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elected assemb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Alexander II reformed Russia by giving a form of elected gov’t = they were responsible for road repairs, schools, &amp; agriculture= this gave Russians some experience w. self-government at the local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exander I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Tsar of Russia, son Alexander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revives harsh methods of Nicholas I, focused more on repression &amp; gets rids of Alex II’s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81-189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power of secret pol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ored strict censo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led critics to Sib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ssification= suppressed non-Russian cultures= increased persecution of the J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ly entered the industrial a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gr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Jewish, Russia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violent mob attacks on Jewish people &amp; their h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-19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 Alex III, persecution increased = Jews not allowed at universities or in certain professions, forced to live in certain places; gangs beat &amp; killed Jewish people, looted &amp; burned their homes &amp; stores= most Jews fled in large #s to the 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uge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Russian Jew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people who flee their homeland to seek safety elsew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s-19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- 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official persecution of Jews encouraged pogroms = gangs beating, killing, burning Jews &amp; their homes = many left Russia for safety = large #s went to the 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to von Bismar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5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Prime minister of Pruss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King William I made him Prime Minister, he hoped to bring more power to the Hohenollerns (Prussian kings) by uniting G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Prussia, Germ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Realpolitik to create a powerful Prussian army – starts wars w. nearby powers (Austria &amp; France) to solidify Prussian power &amp; bring Germanic ppls togethe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 unites the Germanic states into large empire “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ich” = Germany is largest, most powerful country in Eur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cholas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Tsar of Russia, son of Alexander 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focused on economic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94-19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(on next slid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ouraged industri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ouraged building of RR; secured foreign capital to invest in industry &amp; transportation (Trans-Siberian R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political &amp; social probs increased- peasants &amp; nobles feared rapid changes &amp; poor working conditions =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Revolution of 1905 = tried to please the people w. Duma &amp; changes but still not h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Rev. of 1917 = executed = end to the monarchy in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u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Nicholas II, Russ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n elected national legisl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9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peasants are angry &amp; revolt in the Rev of 1905 = terrorists target gov’t officials = Nicholas II summons the Duma to appease the ppl saying no law would go into effect w.o their appro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ter Stolyp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Russian prime minister under Nicholas I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Russian prime minister that sought to restore order after Revolution of 19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19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wanted to reform Russia; wanted to gain peasant support w. moderate land reforms, strengthened zemstovs &amp; improved education; - reforms too limited for most = was assassinated 19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cel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Otto Von Bismar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highest official of a mon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P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King William I made Bismarck Prime minister = soon became this high official w. all the real leading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polit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Otto von Bismar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real politics based on the needs of the state, “Blood and Ir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60s-187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Prussia, Germ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in this strategy power was more important than principles; Bismarck used this policy of “Blood &amp; Iron” (the blood of men in war &amp; build up your industry) to unite G through war &amp; make it into a powerful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Bismarck, Prussia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ake control of other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6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Prussia, north German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Bismarck  dissolved the Austrian-led German Confederation- went to war w. Austria – Prussia won = took north German states &amp; made a new Prussian-led confederation = kicking Austria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i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illiam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German title for Empe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Germ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German peop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.c of the victory over France = convince William I to take this title when the German Confederation was united under one central power in the Second Reich (or Empi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Germans, nationali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Ger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18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German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united Germany into one central Empire; Bismarck set up a two-house legislature; Bundesrat (upper house) appointed by rulers, Reichstag (lower house)- elected by universal male suffrage; Bundesrat could veto any decisions of the Reichstag= power remained w. Empe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rmany Strength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8:36:57Z</dcterms:created>
  <dc:creator>Nease High School</dc:creator>
  <dc:description/>
  <dc:language>en-US</dc:language>
  <cp:lastModifiedBy>Windows User</cp:lastModifiedBy>
  <dcterms:modified xsi:type="dcterms:W3CDTF">2013-03-01T20:02:24Z</dcterms:modified>
  <cp:revision>23</cp:revision>
  <dc:subject/>
  <dc:title>Nationalism Triumphs in Europe</dc:title>
</cp:coreProperties>
</file>